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8E5-885B-4B92-8872-171C43E4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0D3-E27E-40AA-B236-04B98ABF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092-2504-40BF-BC15-B4465A2A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B016-5CF6-4E6D-8812-695A7C17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8A5E-1E59-45C4-A99D-CFF30F9C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4751-EA2A-4698-955E-998ED985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3AF4-987A-4517-8E2A-FCEDEEF8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BFD5-6BE9-498F-943E-C53B8BE9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26E9-3C57-4412-B439-79D13827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5390-97DD-4EE2-AC00-3131E969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3A89-B9CC-46C4-B382-A93DEE7E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9EB-D7C2-4DDA-9EAE-13DCDC9F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AC24-A476-4EBB-A9C4-97485DAA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7735-53E3-4559-B2B8-7144317D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6FB3-DE7B-4ED6-A90F-E98BCD7B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0B7D-98B9-4F14-91DF-CD87F3DE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37A3-91F5-49B8-9375-5BC573DC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183-B455-4F15-B842-BD3FDE77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2D5-8AB3-4073-BBC0-BAB36496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C7F-BB43-4F74-B26F-0B52B8D1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5320-377C-4894-9BBE-1FA21F59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A8ED-E431-43A4-A7DB-A2D4D9BB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8CB-6559-4C40-AFF2-84ED8BC5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BE2-382A-46D0-AC42-67CB7785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DCC3-D923-46D1-AF01-FD0F511E67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1896-C61B-4C99-BDB4-D9341804AE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Arial Black"/>
              </a:rPr>
              <a:t>A hover puck sitting at the 1 m mark is hit forward. It takes 3 seconds to travel to the 7m mark. Find the puck’s average velocity.</a:t>
            </a:r>
            <a:r>
              <a:rPr b="1" lang="en-US" sz="4000" spc="-1" strike="noStrike">
                <a:solidFill>
                  <a:srgbClr val="feec94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4114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33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5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33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03" name="RCFill"/>
            <p:cNvSpPr/>
            <p:nvPr/>
          </p:nvSpPr>
          <p:spPr>
            <a:xfrm>
              <a:off x="127080" y="6451560"/>
              <a:ext cx="144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Graphing Motion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3505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81080" y="2743200"/>
          <a:ext cx="5791320" cy="3622680"/>
        </p:xfrm>
        <a:graphic>
          <a:graphicData uri="http://schemas.openxmlformats.org/drawingml/2006/table">
            <a:tbl>
              <a:tblPr/>
              <a:tblGrid>
                <a:gridCol w="576360"/>
                <a:gridCol w="582480"/>
                <a:gridCol w="594000"/>
                <a:gridCol w="566640"/>
                <a:gridCol w="576360"/>
                <a:gridCol w="576000"/>
                <a:gridCol w="582840"/>
                <a:gridCol w="577800"/>
                <a:gridCol w="58248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522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64911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m/s, 0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981080" y="2666880"/>
            <a:ext cx="0" cy="373392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6375240"/>
            <a:ext cx="579132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1430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the motion of the following o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Graphing Motion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3505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2193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woman is out for her morning jog. She runs at a constant speed of 4m/s for 4 seconds before needing to slow down for an upcoming traffic l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981080" y="2743200"/>
          <a:ext cx="5791320" cy="3622680"/>
        </p:xfrm>
        <a:graphic>
          <a:graphicData uri="http://schemas.openxmlformats.org/drawingml/2006/table">
            <a:tbl>
              <a:tblPr/>
              <a:tblGrid>
                <a:gridCol w="576360"/>
                <a:gridCol w="582480"/>
                <a:gridCol w="594000"/>
                <a:gridCol w="566640"/>
                <a:gridCol w="576360"/>
                <a:gridCol w="576000"/>
                <a:gridCol w="582840"/>
                <a:gridCol w="577800"/>
                <a:gridCol w="58248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522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64911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14800" y="6324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m/s, 0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81080" y="2666880"/>
            <a:ext cx="0" cy="373392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6375240"/>
            <a:ext cx="579132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Graphing Motion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3505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219320"/>
            <a:ext cx="7543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e slows down to a stop in 2 sec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e waits at the corner for 2 more seconds, before crossing the street and speeding back up to 5 m/s in 2 sec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81080" y="2743200"/>
          <a:ext cx="5791320" cy="3622680"/>
        </p:xfrm>
        <a:graphic>
          <a:graphicData uri="http://schemas.openxmlformats.org/drawingml/2006/table">
            <a:tbl>
              <a:tblPr/>
              <a:tblGrid>
                <a:gridCol w="576360"/>
                <a:gridCol w="582480"/>
                <a:gridCol w="594000"/>
                <a:gridCol w="566640"/>
                <a:gridCol w="576360"/>
                <a:gridCol w="576000"/>
                <a:gridCol w="582840"/>
                <a:gridCol w="577800"/>
                <a:gridCol w="58248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522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64911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6324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6248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m/s, 0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981080" y="2666880"/>
            <a:ext cx="0" cy="373392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6375240"/>
            <a:ext cx="579132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26708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6324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6400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35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0120" y="6400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Graphing Motion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505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219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acceleration of the woman for each section of time in this grap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981080" y="2743200"/>
          <a:ext cx="5791320" cy="3622680"/>
        </p:xfrm>
        <a:graphic>
          <a:graphicData uri="http://schemas.openxmlformats.org/drawingml/2006/table">
            <a:tbl>
              <a:tblPr/>
              <a:tblGrid>
                <a:gridCol w="576360"/>
                <a:gridCol w="582480"/>
                <a:gridCol w="594000"/>
                <a:gridCol w="566640"/>
                <a:gridCol w="576360"/>
                <a:gridCol w="576000"/>
                <a:gridCol w="582840"/>
                <a:gridCol w="577800"/>
                <a:gridCol w="58248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1522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64911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6324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6248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m/s, 0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981080" y="2666880"/>
            <a:ext cx="0" cy="373392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6375240"/>
            <a:ext cx="579132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81080" y="426708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4267080"/>
            <a:ext cx="1219320" cy="2133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6324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64008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6400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629400" y="3733920"/>
            <a:ext cx="1143000" cy="2666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5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6400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292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Graphing Motion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505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olley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981080" y="2133720"/>
          <a:ext cx="6019560" cy="4231800"/>
        </p:xfrm>
        <a:graphic>
          <a:graphicData uri="http://schemas.openxmlformats.org/drawingml/2006/table">
            <a:tbl>
              <a:tblPr/>
              <a:tblGrid>
                <a:gridCol w="599040"/>
                <a:gridCol w="605520"/>
                <a:gridCol w="617400"/>
                <a:gridCol w="588960"/>
                <a:gridCol w="599040"/>
                <a:gridCol w="598680"/>
                <a:gridCol w="605880"/>
                <a:gridCol w="600480"/>
                <a:gridCol w="605520"/>
                <a:gridCol w="59904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1522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64911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m/s, 0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981080" y="2133360"/>
            <a:ext cx="0" cy="426708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6375240"/>
            <a:ext cx="6096240" cy="2556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Arial Black"/>
              </a:rPr>
              <a:t>An object has an initial speed of 30 m/s and a final speed of 60 m/s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Arial Black"/>
              </a:rPr>
              <a:t>Which of the following is correct?</a:t>
            </a:r>
            <a:r>
              <a:rPr b="1" lang="en-US" sz="4000" spc="-1" strike="noStrike">
                <a:solidFill>
                  <a:srgbClr val="feec94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graphicFrame>
        <p:nvGraphicFramePr>
          <p:cNvPr id="204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bject’s speed is const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bjects speed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st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re unable to determine whether the speed is constant or no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out more inform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08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76a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Arial Black"/>
              </a:rPr>
              <a:t>At a certain moment, an object is sliding toward the left at a speed of 3 m/s along a horizontal surface.  You are given no information on whether it is slowing down, speeding up or moving with a constant speed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Arial Black"/>
              </a:rPr>
              <a:t>What is its acceleration?</a:t>
            </a:r>
            <a:r>
              <a:rPr b="1" lang="en-US" sz="4000" spc="-1" strike="noStrike">
                <a:solidFill>
                  <a:srgbClr val="feec94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graphicFrame>
        <p:nvGraphicFramePr>
          <p:cNvPr id="211" name="TPChart"/>
          <p:cNvGraphicFramePr/>
          <p:nvPr/>
        </p:nvGraphicFramePr>
        <p:xfrm>
          <a:off x="4508640" y="179244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79244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not be specified without more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215" name="RCFill"/>
            <p:cNvSpPr/>
            <p:nvPr/>
          </p:nvSpPr>
          <p:spPr>
            <a:xfrm>
              <a:off x="127080" y="6451560"/>
              <a:ext cx="144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Solving a Physics Problem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physics problem can be solved easily by taking the correct ste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what variable you are looking f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list of all of your given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n equation(s) that contains most or all of the variables listed in your given colum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pulate the equation(s) to isolate the variable you are looking f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g the numbers into your algebraic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15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334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men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for Exam #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962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m Up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five steps (in order) to solving a physics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4572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c94"/>
                </a:solidFill>
                <a:latin typeface="Arial Black"/>
              </a:rPr>
              <a:t>Lesson #9</a:t>
            </a:r>
            <a:br>
              <a:rPr sz="1800"/>
            </a:br>
            <a:r>
              <a:rPr b="0" lang="en-US" sz="1800" spc="-1" strike="noStrike">
                <a:solidFill>
                  <a:srgbClr val="feec94"/>
                </a:solidFill>
                <a:latin typeface="Arial Black"/>
              </a:rPr>
              <a:t>Topic: </a:t>
            </a:r>
            <a:r>
              <a:rPr b="0" lang="en-US" sz="1800" spc="-1" strike="noStrike">
                <a:solidFill>
                  <a:srgbClr val="feec94"/>
                </a:solidFill>
                <a:latin typeface="Arial Black"/>
              </a:rPr>
              <a:t>Exam 1 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52388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uff to do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 solving physics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and check Exam 1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 a tutoring time (if need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a bonus problem 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all assignments are comple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Vocab Review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ive mo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3 SI units used in this cla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a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c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plac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c94"/>
                </a:solidFill>
                <a:latin typeface="Arial Black"/>
              </a:rPr>
              <a:t>Lesson #7</a:t>
            </a:r>
            <a:br>
              <a:rPr sz="1800"/>
            </a:br>
            <a:r>
              <a:rPr b="0" lang="en-US" sz="1800" spc="-1" strike="noStrike">
                <a:solidFill>
                  <a:srgbClr val="feec94"/>
                </a:solidFill>
                <a:latin typeface="Arial Black"/>
              </a:rPr>
              <a:t>Topic: </a:t>
            </a:r>
            <a:r>
              <a:rPr b="0" lang="en-US" sz="1800" spc="-1" strike="noStrike">
                <a:solidFill>
                  <a:srgbClr val="feec94"/>
                </a:solidFill>
                <a:latin typeface="Arial Black"/>
              </a:rPr>
              <a:t>Instantaneous and Changing Velocity</a:t>
            </a:r>
            <a:endParaRPr b="1" lang="en-US" sz="18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28240" y="12189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difference between average and instantaneous velo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three ways to change an object’s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12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638680"/>
            <a:ext cx="7696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3 Practice Problems 6 -10 &amp; 18 – 2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e tomorrow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4956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velocity of the troll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Velocity is…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graphicFrame>
        <p:nvGraphicFramePr>
          <p:cNvPr id="22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lacement divided by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pe of a d vs. t gra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 with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the ab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31" name="RCOut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76a03">
                    <a:alpha val="4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CInn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11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Acceleration is…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graphicFrame>
        <p:nvGraphicFramePr>
          <p:cNvPr id="234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ate in which velocity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hange in velocity divided by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pe of a v vs. t gra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38" name="RCOut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76a03">
                    <a:alpha val="4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CInn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11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Algebra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581280" y="914400"/>
                <a:ext cx="30481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762120" y="1600200"/>
            <a:ext cx="274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for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200400" y="3657600"/>
                <a:ext cx="419112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838080" y="3962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for 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Graphing Motion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3505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velocity for each section of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981080" y="2133720"/>
          <a:ext cx="6019560" cy="4231800"/>
        </p:xfrm>
        <a:graphic>
          <a:graphicData uri="http://schemas.openxmlformats.org/drawingml/2006/table">
            <a:tbl>
              <a:tblPr/>
              <a:tblGrid>
                <a:gridCol w="599040"/>
                <a:gridCol w="605520"/>
                <a:gridCol w="617400"/>
                <a:gridCol w="588960"/>
                <a:gridCol w="599040"/>
                <a:gridCol w="598680"/>
                <a:gridCol w="605880"/>
                <a:gridCol w="600480"/>
                <a:gridCol w="605520"/>
                <a:gridCol w="59904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1522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64911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m/s, 0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981080" y="2133360"/>
            <a:ext cx="0" cy="426708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6375240"/>
            <a:ext cx="6096240" cy="2556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Graphing Motion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3505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2193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oy is running at a constant velocity of 3m/s for 3 seconds, slows to a stop in 3 seconds and then stands there for 2 seconds, then accelerates to 2m/s in 2 second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981080" y="2133720"/>
          <a:ext cx="6019560" cy="4231800"/>
        </p:xfrm>
        <a:graphic>
          <a:graphicData uri="http://schemas.openxmlformats.org/drawingml/2006/table">
            <a:tbl>
              <a:tblPr/>
              <a:tblGrid>
                <a:gridCol w="599040"/>
                <a:gridCol w="605520"/>
                <a:gridCol w="617400"/>
                <a:gridCol w="588960"/>
                <a:gridCol w="599040"/>
                <a:gridCol w="598680"/>
                <a:gridCol w="605880"/>
                <a:gridCol w="600480"/>
                <a:gridCol w="605520"/>
                <a:gridCol w="59904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1522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64911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m/s, 0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981080" y="2133360"/>
            <a:ext cx="0" cy="426708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81080" y="6375240"/>
            <a:ext cx="6096240" cy="2556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Arial Black"/>
              </a:rPr>
              <a:t>Bonus Problems: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Arial Black"/>
              </a:rPr>
              <a:t>2 pts each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feec94"/>
                </a:solidFill>
                <a:latin typeface="Arial Black"/>
              </a:rPr>
              <a:t>To be handed in on a separate sheet of paper.)</a:t>
            </a:r>
            <a:endParaRPr b="1" lang="en-US" sz="20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07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n walks to his friend’s house. He walks 20 m east, then 30 m north, and then 20 m east. Find the man’s total distance traveled and final displac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uck is driving in the right lane on the interstate with a speed of 9 m/s. A car is 30 m behind the truck moving with a speed of 27m/s. If the vehicles maintain this speed, how far must the car travel before it catches up with the truck? How long will this take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*hint* remember motion is relativ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celeration Trolley Demonstr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average velocity of the trolle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initial instantaneous velocity of the trolle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final instantaneous velocity of the trolley us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uch time was the trolley in mo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uch did the velocity of the trolley change during this tim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s the change in velocity per unit of tim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858000" y="2743200"/>
                <a:ext cx="1295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990720" y="5867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trolley’s accele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4419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Acceleration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leration is the rate of change of an objects velo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expression is more useful if we treat it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bject can change it’s velocity (accelerate)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ing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ing d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819520" y="1523880"/>
                <a:ext cx="12189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657600" y="3048120"/>
                <a:ext cx="156672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Practice Problems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371600"/>
            <a:ext cx="7924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ce is driving down the road going 30 m/s when a deer jumps out in front of her. She stops her car in 3 seconds. What was the acceleration of her c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Practice Problems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37160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Joe is racing his Mustang in a competition. His car can accelerate at a rate of 5 m/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He starts from rest and gets his car up to 40 m/s. How long did it take for the car to get up to this speed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Practice Problems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37160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Jane is traveling down the interstate at 25m/s when she needs to slow down for a construction zone. She accelerates at a rate of -2m/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5 seconds. What is her speed through the construction zo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Acceleration is …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graphicFrame>
        <p:nvGraphicFramePr>
          <p:cNvPr id="12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ing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ing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ing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&amp;2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2,&amp;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31" name="RCFill"/>
            <p:cNvSpPr/>
            <p:nvPr/>
          </p:nvSpPr>
          <p:spPr>
            <a:xfrm>
              <a:off x="127080" y="6451560"/>
              <a:ext cx="144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04560" y="114264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velocity vs. time graph for the motion of an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the motion of an object given a velocity vs. time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572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c94"/>
                </a:solidFill>
                <a:latin typeface="Arial Black"/>
              </a:rPr>
              <a:t>Lesson #8</a:t>
            </a:r>
            <a:br>
              <a:rPr sz="1800"/>
            </a:br>
            <a:r>
              <a:rPr b="0" lang="en-US" sz="1800" spc="-1" strike="noStrike">
                <a:solidFill>
                  <a:srgbClr val="feec94"/>
                </a:solidFill>
                <a:latin typeface="Arial Black"/>
              </a:rPr>
              <a:t>Topic: </a:t>
            </a:r>
            <a:r>
              <a:rPr b="1" lang="en-US" sz="1800" spc="-1" strike="noStrike">
                <a:solidFill>
                  <a:srgbClr val="feec94"/>
                </a:solidFill>
                <a:latin typeface="Arial Black"/>
              </a:rPr>
              <a:t>Graphing Accel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13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57150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 “Graphing Acceleration”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s Practi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3733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ch the graph using a motion detect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Network User</cp:lastModifiedBy>
  <dcterms:modified xsi:type="dcterms:W3CDTF">2008-07-08T19:35:35Z</dcterms:modified>
  <cp:revision>40</cp:revision>
  <dc:subject/>
  <dc:title>Lesson #1 8/29/06 </dc:title>
</cp:coreProperties>
</file>